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B0E-2AB4-4A49-B27D-7B3A47C4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D3B-B61B-4382-9E9C-B5FCEBF8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12A-32D7-4454-B013-D93A7178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F56-A3AD-4894-AAD2-BD37A62F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8D39-4306-41DD-909B-7EF57D67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5F2A-5A31-4CA0-BAB4-DA608AD5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3E33-4ACE-4327-9649-14815F78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5703-1468-4AD0-9403-97BF6A3B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C33C-64E6-401D-A668-DE2DDFF9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5697-E3FB-427E-91BA-F4F5DCE8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0747-1ABC-42F1-9AC4-B35914F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13F-EAE4-4548-9D0E-742B989C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AAD6-697D-4858-A5C5-92D08E31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A7B2-1CCA-4185-B707-13E3181B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3687-AD03-46E1-B667-4D969D7C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DFF2-2C40-49E3-B543-F72C36F4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736E-34CC-46A7-94F8-72FD2A01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E609-6FB6-4E17-9A0C-7FBE8358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3A51-9F09-4915-816C-FCAF0475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3473-F72F-4730-B7F5-78D2FF4D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E296-02AA-4C18-BC59-13128C9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14A8-77C4-4A38-9012-F228BC40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C0E-DBAC-4BA4-851F-91CD58C3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9905-6BC9-4F99-A35B-91A30F6E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DE39-A266-4B3F-8D17-BC060E73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37FA-9412-4FFA-99BF-E9EEFD7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039D-EE8B-4ABA-ACD7-EB32567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D19E-ADCA-4F1F-B5DB-0C8D6EAE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712B-BC5C-46BB-A927-EF20572E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C156-0C57-4EBB-B344-7A163B1F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073D-A60F-442D-9507-64D871B4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6F60-A3FF-4663-80A7-AA7A558C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603B-8D85-4AAA-842D-F11BEE46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23F-ABAC-4362-90FF-A9753C98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5CD2-B067-4C40-959C-BF3B13C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4213-3275-4D5E-A8AB-B6337040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DDD4-201D-4E99-9FD7-9F6AB902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279F8-D3BE-42D7-963B-E622005C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15A8-E4DE-4E2F-AD5D-D07ADEB0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0102-E4C0-4385-A972-341A20B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8611-63A3-42ED-AA46-13087106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51D57-7C4A-41F9-BD76-3B1E7302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82E2-2696-4561-8CDA-801E5C89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96471-8CEE-41F1-A40C-CD2072A5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BE4-772E-4170-9C6A-DD988856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4FFE5-A0D2-4AC7-8C6E-ABD41E7E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64BAF-BFB2-4232-9D31-C111DAC7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63A4-E563-4E99-84A2-9E9E227E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C00E-E58D-46B2-AA60-5364313B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EB82-DD9E-4D23-B50D-E9BB9E0C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4BFAD-3A20-4926-8D4D-B64D0FD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4FCA6-82D3-4356-A328-A7C1E90F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E8D29-E209-47A8-8CC4-01BDDCB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E2001-0CE0-410E-A088-125D4B83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C294-3DC3-479B-8808-7F6CC735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23E-B50C-414E-B6A0-4EB3A014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9DB11-DC57-482A-B540-7880B7D1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63D-AFF2-48C1-A670-E5A03F50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E1D-B24B-422F-A5D1-83663C86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394-68BD-4DE0-B4E3-A261016C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100D-C03D-4891-AF5F-23A6C9AFA575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825-0B46-4D3D-B5A5-4BBE840CCAD4}" type="slidenum">
              <a:rPr b="0" lang="en-CA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E4DD-1086-4653-BF19-CFFAE141A264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A7F1-9E80-404F-9453-9C2EE4AF5EB8}" type="slidenum">
              <a:rPr b="0" lang="en-CA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AAC-B0BB-4260-A706-0AEAAE5C3FA1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3" descr=""/>
          <p:cNvPicPr/>
          <p:nvPr/>
        </p:nvPicPr>
        <p:blipFill>
          <a:blip r:embed="rId1"/>
          <a:stretch/>
        </p:blipFill>
        <p:spPr>
          <a:xfrm>
            <a:off x="3425760" y="530280"/>
            <a:ext cx="54072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Groups 2 and 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1 – Open PowerPoint that is provided by Teacher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y Animal Template for Lesson Plan.pp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2 – Add your name to the text box at the bottom of the slid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3 – Change the WordArt title to your animal’s name and insert a picture of your anima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4 – Scroll down to the next slide, Habitat and insert a picture of your animal in its habit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5 – Click on textbox to  write a description about your animal’s habit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6 – Scroll down to the next slide and repeat the steps abov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7 – Complete the rest of the slides using the steps abov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8 – Save and Prin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9 – Present to the clas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tudents will be assessed on their ability to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age time when doing their resear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vide accurate information from appropriate websites that pertains to their anim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clude a well written description using complete sentences and a picture from the Internet and/or Clip Art on each slid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sent their PowerPoint in a clear and easy to understand manner to their classma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glish Language Arts Curriculum, Elementary K-3, New Brunswick Department of Education Curriculum Development Branch, New Brunswick, 199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oblyer, M.D. and Doering, H. Aaron., Integrating Educational Technology into Teaching,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Edition, 2010 Pearson Education Canad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three lesson plans we chose came from the website educationworld.c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on One – The Bird Can Blog: Online Writing with a Twist. (Grades 3-5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www.educationworld.com/a_tech/techlp/techlp055.sht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on Two - Scriptwriting with a Wiki (Grades 6-8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www.educationworld.com/a_tech/techlp/techlp054.sht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on Three – A Favorite Poem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Grades 9-12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www.educationworld.com/a_tech/techlp/techlp032.sht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sson 1 – The Bird Can Blo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Object 4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257796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susan.marshall\AppData\Local\Microsoft\Windows\Temporary Internet Files\Content.IE5\EQT51C70\MP900446581[1].jpg"/>
          <p:cNvPicPr/>
          <p:nvPr/>
        </p:nvPicPr>
        <p:blipFill>
          <a:blip r:embed="rId3"/>
          <a:stretch/>
        </p:blipFill>
        <p:spPr>
          <a:xfrm>
            <a:off x="2362320" y="3809880"/>
            <a:ext cx="3078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sson 2 – Scriptwriting with a Wik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Object 6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196848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Users\susan.marshall\AppData\Local\Microsoft\Windows\Temporary Internet Files\Content.IE5\D8SU6W34\MC900290369[1].wmf"/>
          <p:cNvPicPr/>
          <p:nvPr/>
        </p:nvPicPr>
        <p:blipFill>
          <a:blip r:embed="rId2"/>
          <a:stretch/>
        </p:blipFill>
        <p:spPr>
          <a:xfrm>
            <a:off x="2514600" y="3657600"/>
            <a:ext cx="28224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sson 3 – A Favorite Po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Object 5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2767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C:\Users\susan.marshall\AppData\Local\Microsoft\Windows\Temporary Internet Files\Content.IE5\FSHE5FBD\MC900282290[1].wmf"/>
          <p:cNvPicPr/>
          <p:nvPr/>
        </p:nvPicPr>
        <p:blipFill>
          <a:blip r:embed="rId2"/>
          <a:stretch/>
        </p:blipFill>
        <p:spPr>
          <a:xfrm>
            <a:off x="3124080" y="4114800"/>
            <a:ext cx="18972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nimal Report PowerPoint Presen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ief Descri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udents will explore and locate specific information pertaining  to animals using the internet as their search tool. They will then incorporate this into a PowerPoint Presentation to share with their pe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rade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3-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ura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One Mont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761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vigate the internet by using a variety of search engines to gather information about the animal of their choi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ll use the PowerPoint template given to them to report their findings about their anim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ll download pictures from the internet to attach to their Prese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terials Nee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student access to word processing and intern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Smart Board or LCD projector for the teacher to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ETS for Teacher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ndard 1 – Facilitate and Inspire Student Learning and Creativi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ndard 2 – Design and Develop Digital Age Learning Experiences and Assessme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ndard 3 – Model Digital-Age Work and Learn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ndard 4 – Promote and Model Digital Citizenship and Responsibili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ETS for Students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1 – Creativity and Innov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2 – Communication and Collabor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3 – Research and Information Fluenc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6 – Technology Operations and Concep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rebuchet MS"/>
              </a:rPr>
              <a:t>(GCO8) Students will be expected to use writing and other forms of representation to explore, clarify, and reflect on their thoughts, feelings, experiences and learnings; and to use their imagination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rebuchet MS"/>
              </a:rPr>
              <a:t>(GCO9)Students will be able to create texts collaboratively and independently, using a variety of forms for a range of audiences and purpos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GCO10) Students will be expected to use a range of strategies to develop effective writing and media products to enhance their clarity, precision, and effectivenes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7:09:14Z</dcterms:created>
  <dc:creator>ladmin</dc:creator>
  <dc:description/>
  <dc:language>en-US</dc:language>
  <cp:lastModifiedBy>Mike</cp:lastModifiedBy>
  <dcterms:modified xsi:type="dcterms:W3CDTF">2012-07-05T21:07:24Z</dcterms:modified>
  <cp:revision>27</cp:revision>
  <dc:subject/>
  <dc:title>Chapter 4 – Activity 2 &amp; 3</dc:title>
</cp:coreProperties>
</file>